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FBE-5FE3-42B8-B758-CE85DBAC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B1F-91F2-49A9-8C83-DBA5ACBF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A38-12D9-4C26-B52B-B48C415F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0DA-4A6D-4EEF-A512-EE721F07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45F-F397-4BC0-90C9-E9DBAF0E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84D-344D-4C05-BBB7-F575C3E6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951-F246-4C68-A6AC-94FEA42F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F7A-1044-4047-AEAC-A40EDFD7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312-5C5C-4719-AEA1-3F346F5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6B0-A7C9-4469-A0D1-5E15011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FCE-6236-4582-9178-7306744A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ABD-61B8-4A9F-B79E-0E6A911F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E5A-5BCA-4CEB-9DB4-9AB0BFD4A2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71388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194b36"/>
                </a:solidFill>
                <a:latin typeface="Arial Narrow"/>
              </a:rPr>
              <a:t>CONFERÊNCIA ESTADUAL DE SAÚDE MENTAL -  INTERSETORIAL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" name="Espaço Reservado para Conteúdo 3" descr="imagem.JPG"/>
          <p:cNvPicPr/>
          <p:nvPr/>
        </p:nvPicPr>
        <p:blipFill>
          <a:blip r:embed="rId1"/>
          <a:stretch/>
        </p:blipFill>
        <p:spPr>
          <a:xfrm>
            <a:off x="3000240" y="2071800"/>
            <a:ext cx="2907000" cy="290664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6"/>
          <p:cNvSpPr/>
          <p:nvPr/>
        </p:nvSpPr>
        <p:spPr>
          <a:xfrm>
            <a:off x="357120" y="500040"/>
            <a:ext cx="12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194b36"/>
                </a:solidFill>
                <a:latin typeface="Arial Narrow"/>
              </a:rPr>
              <a:t>IV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aixaDeTexto 7"/>
          <p:cNvSpPr/>
          <p:nvPr/>
        </p:nvSpPr>
        <p:spPr>
          <a:xfrm>
            <a:off x="428760" y="5286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40000"/>
                </a:solidFill>
                <a:latin typeface="Times New Roman"/>
              </a:rPr>
              <a:t>Por uma reforma psiquiátrica antimanicom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aixaDeTexto 9"/>
          <p:cNvSpPr/>
          <p:nvPr/>
        </p:nvSpPr>
        <p:spPr>
          <a:xfrm>
            <a:off x="1785960" y="592920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3 a 15 de maio de 20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lo Horizonte - M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0104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M/AP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Levantamento da disponibilidade da Atenção em SM nos 673 municípios com menos de 20 mil/ha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1" name="Gráfico 6" descr=""/>
          <p:cNvPicPr/>
          <p:nvPr/>
        </p:nvPicPr>
        <p:blipFill>
          <a:blip r:embed="rId1"/>
          <a:stretch/>
        </p:blipFill>
        <p:spPr>
          <a:xfrm>
            <a:off x="420840" y="2066760"/>
            <a:ext cx="830232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Centros de Convivênc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128592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Calibri"/>
              </a:rPr>
              <a:t>Minas Gerais conta hoje com 23 Centros de Convivênci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9 em Belo Horizon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de Beti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Uberlând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Governador Valadar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Barbace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abará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Juiz de For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Conselheiro Lafaie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nhandu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Joaquim de Bic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ú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Natérc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Gonçalo do Rio Abaix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Alfen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patinga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Ouro Pret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ítulo 1"/>
          <p:cNvSpPr/>
          <p:nvPr/>
        </p:nvSpPr>
        <p:spPr>
          <a:xfrm rot="393000">
            <a:off x="5256360" y="555120"/>
            <a:ext cx="35715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Associação de Usuários </a:t>
            </a:r>
            <a:br>
              <a:rPr sz="2400"/>
            </a:b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 Famili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m 21 municípi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000760" y="3571920"/>
            <a:ext cx="3571920" cy="15001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00"/>
                </a:solidFill>
                <a:uFillTx/>
                <a:latin typeface="Arial"/>
              </a:rPr>
              <a:t>GERAÇÃO DE R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26 experiências em 16 município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072640" cy="60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 Narrow"/>
              </a:rPr>
              <a:t>HOSPITAIS PSIQUIÁTRICOS</a:t>
            </a:r>
            <a:br>
              <a:rPr sz="4000"/>
            </a:br>
            <a:br>
              <a:rPr sz="40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icio dos anos 80 em torno de 8 mil leitos, distribuídos em 36 hospitais (maioria conveniado ao SUS)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tualmente são 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 Hospitais Psiquiátricos, sendo 3 públicos e demais conveniados ao SUS</a:t>
            </a:r>
            <a:br>
              <a:rPr sz="2400"/>
            </a:br>
            <a:br>
              <a:rPr sz="2400"/>
            </a:br>
            <a:r>
              <a:rPr b="1" i="1" lang="pt-BR" sz="2800" spc="-1" strike="noStrike">
                <a:solidFill>
                  <a:srgbClr val="194b36"/>
                </a:solidFill>
                <a:latin typeface="Arial Narrow"/>
                <a:ea typeface="Times New Roman"/>
              </a:rPr>
              <a:t>Total de leitos 2.425 - sendo que 1.049 são de longa permanência e 1.376 de leitos para pacientes agudos.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14300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94b36"/>
                </a:solidFill>
                <a:uFillTx/>
                <a:latin typeface="Arial Narrow"/>
              </a:rPr>
              <a:t>Financiamento Estadual Fix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liberação SES/MG/CIB-SUS-MG nº 055, de 11/12/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stitui incentivo financeiro destinado aos municípios interessados na implantação da Rede de Serviços de Saúde Mental no valor de 15 mi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emio Jose Cezar de Moraes –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eleção de 10 melhores trabalhos que relatem experiências exitosas dos municípios na área de saúde mental. Recurso anual de 150 mil rea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curso do tesouro para aquisição de medicament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900 mil reais anuais para ajuda no custeio de CAPS i e CAPS ad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ssistência Psiquiátrica Final dos anos 70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753080" cy="31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 rot="20936400">
            <a:off x="5398920" y="134100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usuario\Meus documentos\fotos\Ituiutaba 2008\Cópia de P5210153.JPG"/>
          <p:cNvPicPr/>
          <p:nvPr/>
        </p:nvPicPr>
        <p:blipFill>
          <a:blip r:embed="rId3"/>
          <a:stretch/>
        </p:blipFill>
        <p:spPr>
          <a:xfrm rot="19927200">
            <a:off x="3492360" y="3715920"/>
            <a:ext cx="3672000" cy="242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usuario\Meus documentos\fotos\Ituiutaba 2008\Cópia de P5210131.JPG"/>
          <p:cNvPicPr/>
          <p:nvPr/>
        </p:nvPicPr>
        <p:blipFill>
          <a:blip r:embed="rId4"/>
          <a:stretch/>
        </p:blipFill>
        <p:spPr>
          <a:xfrm rot="486600">
            <a:off x="6587640" y="4005000"/>
            <a:ext cx="226872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usuario\Meus documentos\fotos\Ituiutaba 2008\Cópia de P5210155.JPG"/>
          <p:cNvPicPr/>
          <p:nvPr/>
        </p:nvPicPr>
        <p:blipFill>
          <a:blip r:embed="rId5"/>
          <a:stretch/>
        </p:blipFill>
        <p:spPr>
          <a:xfrm rot="20849400">
            <a:off x="395280" y="3933360"/>
            <a:ext cx="32958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900000" y="1557360"/>
            <a:ext cx="7215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inas e a Saúde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ental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1793880" y="1981080"/>
            <a:ext cx="55548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DR/MG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3 MACRORREGIÕE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inas Gerais possui 20.033.665 hab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m 853 municípios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DATASUS, 2009)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Dos 853 municípios mineiros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671 têm menos de 20mil h.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153 tem entre 20 e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29 municípios  superior a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Menos de 2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Aproximadamente 79% do total de municípios de MG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omando-se a população de todos esses municípios, tem-se mais de 5 milhões de habitantes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ão quase 30 % da população de nosso Estado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População pequena em área geográfica ampla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2920" y="1714680"/>
            <a:ext cx="8572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5 CAPS 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3 CAPS I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 III – atenção contínua 24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i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6 CAPSa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m torno de  42 projetos  em processo de avaliação para credenciamento pela SES/M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4674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156 Centros de Atenção Psicossocia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00120" y="928800"/>
            <a:ext cx="6480360" cy="504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093080" y="4724280"/>
            <a:ext cx="1374480" cy="107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 rot="5400000">
            <a:off x="7332840" y="3086640"/>
            <a:ext cx="2879640" cy="10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Verdana"/>
              </a:rPr>
              <a:t>Responsabilidade temática: SES/AG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14200" y="428760"/>
            <a:ext cx="8447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Taxa de cobertura de CAPS – Minas Gera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4149720"/>
            <a:ext cx="1944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39640" y="4437000"/>
            <a:ext cx="239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Cobertura de CAPS por 100.000 habitante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44840" y="6524640"/>
            <a:ext cx="395928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Disponível em http://200.198.43.8/SES/MG. Acesso em 10/09/2009.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Rosa_dos_Ventos_dsfdfdsdsaljdl"/>
          <p:cNvPicPr/>
          <p:nvPr/>
        </p:nvPicPr>
        <p:blipFill>
          <a:blip r:embed="rId3"/>
          <a:stretch/>
        </p:blipFill>
        <p:spPr>
          <a:xfrm>
            <a:off x="2987640" y="5300640"/>
            <a:ext cx="576360" cy="511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4968720" y="5705640"/>
            <a:ext cx="1690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Fonte: SISPACTO/MS/TABNET</a:t>
            </a:r>
            <a:r>
              <a:rPr b="1" lang="pt-BR" sz="7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2240" y="6518160"/>
            <a:ext cx="305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Calibri"/>
              </a:rPr>
              <a:t>O valor em negrito corresponde à meta pactuada pelo estado.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1086120" cy="178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6948360" y="577836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Alcançado em M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932360" y="1844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5724360" y="2820960"/>
            <a:ext cx="10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Jequitinhonh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084720" y="357336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838840" y="421308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43564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4932360" y="4653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92436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5243400" y="3500280"/>
            <a:ext cx="841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635280" y="2798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092320" y="342900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482920" y="3933720"/>
            <a:ext cx="1224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443640" y="2421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4295880" y="4167360"/>
            <a:ext cx="106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680" y="713880"/>
            <a:ext cx="81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bertura de CAPS por macro-região de Minas Gerais - REDE REAL/ 2009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57120" y="1319040"/>
          <a:ext cx="8429760" cy="5178600"/>
        </p:xfrm>
        <a:graphic>
          <a:graphicData uri="http://schemas.openxmlformats.org/drawingml/2006/table">
            <a:tbl>
              <a:tblPr/>
              <a:tblGrid>
                <a:gridCol w="1071720"/>
                <a:gridCol w="785880"/>
                <a:gridCol w="1000080"/>
                <a:gridCol w="785880"/>
                <a:gridCol w="857160"/>
                <a:gridCol w="785880"/>
                <a:gridCol w="785520"/>
                <a:gridCol w="785880"/>
                <a:gridCol w="642960"/>
                <a:gridCol w="928800"/>
              </a:tblGrid>
              <a:tr h="622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R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te. de municípi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pulação da Macrorregiã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d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/ 100.000 hab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ULO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8.78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332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.6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9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2.4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EQUITINHONHA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6.34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357.6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89.17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TE DE MIN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609.79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5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48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. DO NOR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15.8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.5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4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64.2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621.87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as Gerai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36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714240"/>
            <a:ext cx="56437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77  Serviços Residenciais Terapêutic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m torno de 760 morad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00040" y="1737360"/>
            <a:ext cx="367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6 Barbacen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 Belo Horizo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Beti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onte Carmel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Araçua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 Conselheiro Lafai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 Juiz de F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Montes Clar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ut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Itacarambí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7 Alfena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Divinópol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Contag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 rot="181200">
            <a:off x="3850920" y="1857240"/>
            <a:ext cx="4981680" cy="2208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OGRAMA DE VOLTA PARA CAS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m torno de 540 beneficiad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79 municípios cadastrados no Program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Meta de desospitalização para 2010: 75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aixaDeTexto 5"/>
          <p:cNvSpPr/>
          <p:nvPr/>
        </p:nvSpPr>
        <p:spPr>
          <a:xfrm>
            <a:off x="450072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Times New Roman"/>
              </a:rPr>
              <a:t>Atualmente, temos 1045 moradores nos 19 hospitais psiquiátricos do Estado</a:t>
            </a:r>
            <a:r>
              <a:rPr b="1" i="1" lang="pt-BR" sz="2400" spc="-1" strike="noStrike">
                <a:solidFill>
                  <a:srgbClr val="b2b2b2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20:54:18Z</dcterms:created>
  <dc:creator>flaviar</dc:creator>
  <dc:description/>
  <dc:language>en-US</dc:language>
  <cp:lastModifiedBy>Casa</cp:lastModifiedBy>
  <dcterms:modified xsi:type="dcterms:W3CDTF">2010-05-13T01:53:07Z</dcterms:modified>
  <cp:revision>50</cp:revision>
  <dc:subject/>
  <dc:title>Reflexões Sobre a Reforma da Assistência Psiquiátrica  XII Congresso Mineiro de Psiquiatria    junho de 2008</dc:title>
</cp:coreProperties>
</file>